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7849-971F-4140-939C-7114819FB236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4878-7C42-4F57-A0EB-E3D2A35F4F32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2DBF-1534-4EAE-928D-C043E49F478D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1271-2C63-4E83-B707-2D1F484B8BA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07D1-07B5-43E3-8817-9CED8CD24544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5514-14A3-4421-9F9D-016FCAF4012A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8BF6-C9CB-4EAC-AE9E-5B86FD3638F9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1FB5-EC01-428F-B7E2-91268F27132E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FAE6-4D76-44E7-8072-AA5766AB4E4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668D-7965-4AAA-81C8-C4F7BC9FB1ED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66B8-C69D-4AD4-BA03-68D1B99B57E0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BBB4-C03E-461B-A011-2FB77DA86D92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58A6-634C-4D37-A38E-7A72804F1F68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15A0-6076-4EFE-AF8E-C33871971A88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0B57-1164-44D7-9236-73D70DE53F42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5281-F641-4F09-A4BC-FDE24F16DC1F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49C2-5D5B-4B5E-A02C-431DD69E1412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8643-1128-4830-A94E-9CE0DC55F914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72CC-9309-450E-8FD1-2C91744BEA07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4B07-3A1E-459D-8C11-8DA2CF7B642C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5699-B231-4734-B1CD-845A5D0E023E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DFF0-6BB5-43D4-B810-C00CD0FB2EB3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731B-38C8-4D20-BFC4-2009E9E24541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6A2-9005-4092-BC6D-2CD36972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6C1-9AB0-4D84-8EF4-176FE569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DD4-D7F8-449B-AAD1-B8026FBF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05A-D6EA-4BF1-ACCA-8267D2B1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940F-4817-48D0-88AD-ACCBCB832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AA00-05F3-4C08-A543-6E0E685E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A0F0-0846-4EED-AF3B-30D9FB81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E4D2-95F8-4B2D-9802-525D180F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784F-AA97-4326-9155-4854260F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B745-CF26-4441-81E6-8673B507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977A-0D31-45BA-8434-C48501FC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F98-E880-464A-9298-BE4EFF8B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7155-BEF7-4D22-B12E-BCD50AB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C305-AA52-48D6-AE76-88BABB9E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9A65-BCEC-4739-9BC5-D1F3F4AB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6B54-C3DD-4475-B564-11E64ECF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6A62-E76F-49A8-86FB-8B7E3CC3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A32-2E9C-4BAC-86B1-9C72106B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536-686F-46E4-869A-6B99EF35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976-8146-4ABE-9097-C31E8755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92C-2563-4C75-B6D4-8D8337E3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6C3-D2C5-43BC-9AE0-877B85F5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EBD-D768-475D-8523-393BD334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C54-E5A2-4C60-B69D-41F0073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6F17-2F63-4194-BABC-ABC2F5121B31}" type="slidenum">
              <a:rPr b="0" lang="en-GB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8B23-4C4E-4357-BE33-D618F4E43F04}" type="slidenum">
              <a:rPr b="0" lang="en-GB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wikispaces.com/" TargetMode="External"/><Relationship Id="rId4" Type="http://schemas.openxmlformats.org/officeDocument/2006/relationships/hyperlink" Target="http://www.wikispaces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www.wikispaces.com/site/tour#files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Crearea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și administrarea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unui wik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utilizând platforma wikispaces.c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ditorul este ușor de utilizat. Permite o formatare de bază a textului, inserare de imagini și fișiere și crearea de link-uri spre alte pagini din wiki sau alte pagini Web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entru a modifica formatul pentru textul dvs., pur şi simplu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electează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text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l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e care doriţi să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-l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modificaţi şi faceţi clic pe butonul dorit de formatare în bara de instrumente. Aveţi posibilitatea să formataţi text cu caractere aldine, cursive, sublinia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t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ă realizați liste numerotate sau marcat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. De asemenea, puteţi adăuga o linie orizontală pauză</a:t>
            </a: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3643200" y="1285920"/>
            <a:ext cx="543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uteţi include cu uşurinţă imagini şi fişiere în paginile dvs.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Utilizarea de "Upload  File" sau “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xternal Imag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" pentru imagin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i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externe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ste calea prin care putem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select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din calculator sau de pe Internet,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imaginea sau fişier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l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e care doriţi să le puneţi pe pagin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P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oziționeaz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cursoru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l la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ocul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d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in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agin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nde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dor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eşti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să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pară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imagine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sau fişier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l inserat.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Faceţi dublu clic pe imagine sau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p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fişier pentru 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le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u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n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e pagina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2"/>
          <a:stretch/>
        </p:blipFill>
        <p:spPr>
          <a:xfrm>
            <a:off x="3571920" y="928800"/>
            <a:ext cx="5095800" cy="153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"/>
          <p:cNvPicPr/>
          <p:nvPr/>
        </p:nvPicPr>
        <p:blipFill>
          <a:blip r:embed="rId3"/>
          <a:stretch/>
        </p:blipFill>
        <p:spPr>
          <a:xfrm>
            <a:off x="7000920" y="1143000"/>
            <a:ext cx="3571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animClr clrSpc="rgb">
                                      <p:cBhvr>
                                        <p:cTn id="1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1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5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Puteţi crea tabele printr-un clic pe tabelul 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di</a:t>
            </a: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n bara de instrumente. După ce 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se </a:t>
            </a: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precizează numărul de rânduri şi de coloane de tabel, faceţi clic pe “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Insert Table</a:t>
            </a: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". </a:t>
            </a:r>
            <a:br>
              <a:rPr sz="1400"/>
            </a:br>
            <a:br>
              <a:rPr sz="1400"/>
            </a:b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Dacă doriţi să adăugaţi sau să eliminaţi rânduri sau coloane, după ce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 tabelul  a fost creat</a:t>
            </a:r>
            <a:r>
              <a:rPr b="0" lang="vi-VN" sz="1400" spc="-1" strike="noStrike">
                <a:solidFill>
                  <a:srgbClr val="ffffff"/>
                </a:solidFill>
                <a:latin typeface="Times New Roman"/>
              </a:rPr>
              <a:t>, faceţi clic pe o celulă din tabel. La  margin</a:t>
            </a: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ea tabelului va apărea pictograma corespunzătoare tabelului care, o dată activată, permire adăugarea, ștergerea de linii, coloane sau celule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Book Antiqua"/>
              </a:rPr>
              <a:t>Tot în acest mod se poate șterge un tabel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3286080" y="642960"/>
            <a:ext cx="5800680" cy="1071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4786200" y="2214720"/>
            <a:ext cx="2819520" cy="1714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4"/>
          <a:stretch/>
        </p:blipFill>
        <p:spPr>
          <a:xfrm>
            <a:off x="3838680" y="4381560"/>
            <a:ext cx="5305320" cy="247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5"/>
          <a:stretch/>
        </p:blipFill>
        <p:spPr>
          <a:xfrm>
            <a:off x="8001000" y="1071720"/>
            <a:ext cx="495360" cy="52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6"/>
          <a:stretch/>
        </p:blipFill>
        <p:spPr>
          <a:xfrm>
            <a:off x="7143840" y="4572000"/>
            <a:ext cx="28584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41280" y="262080"/>
            <a:ext cx="8309160" cy="573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73480"/>
          </a:xfrm>
          <a:prstGeom prst="rect">
            <a:avLst/>
          </a:prstGeom>
          <a:ln w="0">
            <a:noFill/>
          </a:ln>
        </p:spPr>
      </p:pic>
      <p:sp>
        <p:nvSpPr>
          <p:cNvPr id="140" name="Oval 7"/>
          <p:cNvSpPr/>
          <p:nvPr/>
        </p:nvSpPr>
        <p:spPr>
          <a:xfrm>
            <a:off x="0" y="785880"/>
            <a:ext cx="1571760" cy="571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-85680" y="-6480"/>
            <a:ext cx="3097080" cy="12067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Această pagină va afişa toate paginile din wiki. Ca membru al wiki, aveţi opţiunea de a imprima pagini. În calitate de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dministrator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, puteţi, de asemenea: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Bloca o pagină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Şterge sau redenumi o pagină.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Redirecţiona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o pagină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pr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alta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ă pagină.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(De exemplu, dacă redirec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ționați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agina “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Hom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" la “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pagina nou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" in orice moment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când în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cercaţi să mergeţi la pagina de pornire, acesta va fi automat trimis l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      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pagina nou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“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14200" y="3286080"/>
            <a:ext cx="8750520" cy="3429000"/>
          </a:xfrm>
          <a:prstGeom prst="rect">
            <a:avLst/>
          </a:prstGeom>
          <a:ln w="0">
            <a:noFill/>
          </a:ln>
        </p:spPr>
      </p:pic>
      <p:sp>
        <p:nvSpPr>
          <p:cNvPr id="144" name="Oval 6"/>
          <p:cNvSpPr/>
          <p:nvPr/>
        </p:nvSpPr>
        <p:spPr>
          <a:xfrm>
            <a:off x="1928880" y="4572000"/>
            <a:ext cx="1357200" cy="714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115920" y="268200"/>
            <a:ext cx="8746920" cy="2140200"/>
          </a:xfrm>
          <a:prstGeom prst="rect">
            <a:avLst/>
          </a:prstGeom>
          <a:ln w="0">
            <a:noFill/>
          </a:ln>
        </p:spPr>
      </p:pic>
      <p:pic>
        <p:nvPicPr>
          <p:cNvPr id="146" name="Content Placeholder 4" descr=""/>
          <p:cNvPicPr/>
          <p:nvPr/>
        </p:nvPicPr>
        <p:blipFill>
          <a:blip r:embed="rId2"/>
          <a:stretch/>
        </p:blipFill>
        <p:spPr>
          <a:xfrm>
            <a:off x="0" y="3000240"/>
            <a:ext cx="88520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782964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Book Antiqua"/>
              </a:rPr>
              <a:t>Din meniul Manage wiki,  Content, Files</a:t>
            </a:r>
            <a:r>
              <a:rPr b="1" lang="vi-VN" sz="1800" spc="-1" strike="noStrike">
                <a:solidFill>
                  <a:srgbClr val="ffffff"/>
                </a:solidFill>
                <a:latin typeface="Times New Roman"/>
              </a:rPr>
              <a:t> puteţi vedea ce fişiere sunt în wiki dvs. sau să încărcaţi fişiere noi pentru a </a:t>
            </a:r>
            <a:r>
              <a:rPr b="1" lang="ro-RO" sz="1800" spc="-1" strike="noStrike">
                <a:solidFill>
                  <a:srgbClr val="ffffff"/>
                </a:solidFill>
                <a:latin typeface="Book Antiqua"/>
              </a:rPr>
              <a:t>dezvolta pagina</a:t>
            </a:r>
            <a:r>
              <a:rPr b="1" lang="vi-VN" sz="1800" spc="-1" strike="noStrike">
                <a:solidFill>
                  <a:srgbClr val="ffffff"/>
                </a:solidFill>
                <a:latin typeface="Times New Roman"/>
              </a:rPr>
              <a:t>. În calitate de </a:t>
            </a:r>
            <a:r>
              <a:rPr b="1" lang="ro-RO" sz="1800" spc="-1" strike="noStrike">
                <a:solidFill>
                  <a:srgbClr val="ffffff"/>
                </a:solidFill>
                <a:latin typeface="Book Antiqua"/>
              </a:rPr>
              <a:t>administrator</a:t>
            </a:r>
            <a:r>
              <a:rPr b="1" lang="vi-VN" sz="1800" spc="-1" strike="noStrike">
                <a:solidFill>
                  <a:srgbClr val="ffffff"/>
                </a:solidFill>
                <a:latin typeface="Times New Roman"/>
              </a:rPr>
              <a:t>, puteţi, de asemenea, redenumi sau şterge </a:t>
            </a:r>
            <a:r>
              <a:rPr b="1" lang="ro-RO" sz="1800" spc="-1" strike="noStrike">
                <a:solidFill>
                  <a:srgbClr val="ffffff"/>
                </a:solidFill>
                <a:latin typeface="Book Antiqua"/>
              </a:rPr>
              <a:t>fișiere</a:t>
            </a:r>
            <a:r>
              <a:rPr b="1" lang="vi-VN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0" y="3143160"/>
            <a:ext cx="90741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2900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Din meniul Manage wiki și submeniul Tools puteţi obține</a:t>
            </a: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 statistici de utilizare pentru wiki. Acestea includ: </a:t>
            </a:r>
            <a:br>
              <a:rPr sz="1800"/>
            </a:b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* Num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rul de puncte de vedere pe zi </a:t>
            </a: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* Numărul de articole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editate </a:t>
            </a: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pe zi </a:t>
            </a: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* Numărul de mesaje pe zi </a:t>
            </a: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* Num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r de editori pe zi </a:t>
            </a: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*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Numărul de v</a:t>
            </a: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izite pe pagină </a:t>
            </a:r>
            <a:br>
              <a:rPr sz="1800"/>
            </a:br>
            <a:r>
              <a:rPr b="0" lang="vi-VN" sz="1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357720" y="785880"/>
            <a:ext cx="5576760" cy="3714840"/>
          </a:xfrm>
          <a:prstGeom prst="rect">
            <a:avLst/>
          </a:prstGeom>
          <a:ln w="0">
            <a:noFill/>
          </a:ln>
        </p:spPr>
      </p:pic>
      <p:sp>
        <p:nvSpPr>
          <p:cNvPr id="153" name="Oval 5"/>
          <p:cNvSpPr/>
          <p:nvPr/>
        </p:nvSpPr>
        <p:spPr>
          <a:xfrm>
            <a:off x="5072040" y="3500280"/>
            <a:ext cx="2143080" cy="1285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6840" y="4214880"/>
            <a:ext cx="81867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Din meniul Manage wiki, submeniul Settings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, puteţi să: </a:t>
            </a:r>
            <a:br>
              <a:rPr sz="1600"/>
            </a:b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S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chimba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ți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numele wiki (numele care apare în colţul din stânga sus al tău wiki)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aţi URL-ul dvs. de wiki (de exemplu, de la http://your-wiki-name.wikispaces.com la http://your-wiki.wikispaces.com). Puteţi doar să vă schimbaţi URL-ul wiki, o dată la fiecare 30 de zile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ri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eţi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o descriere a wiki (această descriere va apărea în Wikispaces Wiki Directory)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ați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licen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ț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a pentru drepturile de autor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pentru conținutul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publicat pe wiki.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8331480" cy="221472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3286080" y="2000160"/>
            <a:ext cx="342900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Din meniul Manage wiki, Settings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, organizatorii pot: </a:t>
            </a:r>
            <a:br>
              <a:rPr sz="1600"/>
            </a:b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a tema, sau  aspect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ul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global al paginii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wiki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fundal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ul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şi culorile de font pentru meniuri wiki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aspectul conţinut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ului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, sau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părții de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edita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r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e a paginii. </a:t>
            </a:r>
            <a:br>
              <a:rPr sz="1600"/>
            </a:b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     * Schimbarea logo-ul pentru wiki. Logo-ul implicit este Wikispaces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copacul 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Bonsai care apare în partea superioară stângă a </a:t>
            </a:r>
            <a:r>
              <a:rPr b="1" lang="ro-RO" sz="1600" spc="-1" strike="noStrike">
                <a:solidFill>
                  <a:srgbClr val="ffffff"/>
                </a:solidFill>
                <a:latin typeface="Book Antiqua"/>
              </a:rPr>
              <a:t>paginii</a:t>
            </a:r>
            <a:r>
              <a:rPr b="1" lang="vi-VN" sz="1600" spc="-1" strike="noStrike">
                <a:solidFill>
                  <a:srgbClr val="ffffff"/>
                </a:solidFill>
                <a:latin typeface="Times New Roman"/>
              </a:rPr>
              <a:t> wiki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3643200" y="642960"/>
            <a:ext cx="5292720" cy="4357800"/>
          </a:xfrm>
          <a:prstGeom prst="rect">
            <a:avLst/>
          </a:prstGeom>
          <a:ln w="0">
            <a:noFill/>
          </a:ln>
        </p:spPr>
      </p:pic>
      <p:sp>
        <p:nvSpPr>
          <p:cNvPr id="161" name="Oval 5"/>
          <p:cNvSpPr/>
          <p:nvPr/>
        </p:nvSpPr>
        <p:spPr>
          <a:xfrm>
            <a:off x="3571920" y="2143080"/>
            <a:ext cx="2928960" cy="214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3"/>
          <a:stretch/>
        </p:blipFill>
        <p:spPr>
          <a:xfrm>
            <a:off x="3429000" y="5500800"/>
            <a:ext cx="7142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457200" y="1357200"/>
            <a:ext cx="5472000" cy="5000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940360" y="1557360"/>
            <a:ext cx="32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ra de adrese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wser-ului vostru de Internet introduceti URL-ul </a:t>
            </a: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http://</a:t>
            </a:r>
            <a:r>
              <a:rPr b="0" lang="ro-RO" sz="18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www.wikispace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v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avea la dispozi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e o interf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ț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imaginea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rat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ce v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ermite crearea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unui cont în platforma wikispaces.com unde puteți să creați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riul wik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tle 1" descr=""/>
          <p:cNvPicPr/>
          <p:nvPr/>
        </p:nvPicPr>
        <p:blipFill>
          <a:blip r:embed="rId1"/>
          <a:stretch/>
        </p:blipFill>
        <p:spPr>
          <a:xfrm>
            <a:off x="-96840" y="-23760"/>
            <a:ext cx="3108240" cy="8715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14200" y="928800"/>
            <a:ext cx="3214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Din meniul Manage wiki administratorii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ot: </a:t>
            </a:r>
            <a:br>
              <a:rPr sz="1600"/>
            </a:b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Seta permisiunile pentru wiki, care determin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cine va avea acces la wiki.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S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permită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non-membri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lor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osta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rea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mesaje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lor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de discuţiie pe wiki sau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ă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îi împiedică să facă acest lucru.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V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ede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tribuțiil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membr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ilor,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să promoveze membrii la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rol de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organizatori. </a:t>
            </a:r>
            <a:br>
              <a:rPr sz="1600"/>
            </a:b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     * Invitaţi noi membri şi de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țin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control pentru cererile de membru în aşteptare.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3643200" y="857160"/>
            <a:ext cx="54277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15001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Book Antiqua"/>
              </a:rPr>
              <a:t>Wikipedia.com oferă </a:t>
            </a:r>
            <a:r>
              <a:rPr b="1" lang="vi-VN" sz="1400" spc="-1" strike="noStrike">
                <a:solidFill>
                  <a:srgbClr val="ffffff"/>
                </a:solidFill>
                <a:latin typeface="Times New Roman"/>
              </a:rPr>
              <a:t> un serviciu </a:t>
            </a:r>
            <a:r>
              <a:rPr b="1" lang="ro-RO" sz="1400" spc="-1" strike="noStrike">
                <a:solidFill>
                  <a:srgbClr val="ffffff"/>
                </a:solidFill>
                <a:latin typeface="Book Antiqua"/>
              </a:rPr>
              <a:t>prin </a:t>
            </a:r>
            <a:r>
              <a:rPr b="1" lang="vi-VN" sz="1400" spc="-1" strike="noStrike">
                <a:solidFill>
                  <a:srgbClr val="ffffff"/>
                </a:solidFill>
                <a:latin typeface="Times New Roman"/>
              </a:rPr>
              <a:t>care pute</a:t>
            </a:r>
            <a:r>
              <a:rPr b="1" lang="ro-RO" sz="1400" spc="-1" strike="noStrike">
                <a:solidFill>
                  <a:srgbClr val="ffffff"/>
                </a:solidFill>
                <a:latin typeface="Book Antiqua"/>
              </a:rPr>
              <a:t>ți</a:t>
            </a:r>
            <a:r>
              <a:rPr b="1" lang="vi-VN" sz="1400" spc="-1" strike="noStrike">
                <a:solidFill>
                  <a:srgbClr val="ffffff"/>
                </a:solidFill>
                <a:latin typeface="Times New Roman"/>
              </a:rPr>
              <a:t> crea conturi </a:t>
            </a:r>
            <a:r>
              <a:rPr b="1" lang="ro-RO" sz="1400" spc="-1" strike="noStrike">
                <a:solidFill>
                  <a:srgbClr val="ffffff"/>
                </a:solidFill>
                <a:latin typeface="Book Antiqua"/>
              </a:rPr>
              <a:t>multiple</a:t>
            </a:r>
            <a:r>
              <a:rPr b="1" lang="vi-VN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Book Antiqua"/>
              </a:rPr>
              <a:t>În meniul Manage wiki, People, Invite people scrieți adresele de e-mail ale persoanelor pe care doriți să le invitați, separate printr-un spațiu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357120" y="2714760"/>
            <a:ext cx="77151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4" descr=""/>
          <p:cNvPicPr/>
          <p:nvPr/>
        </p:nvPicPr>
        <p:blipFill>
          <a:blip r:embed="rId1"/>
          <a:stretch/>
        </p:blipFill>
        <p:spPr>
          <a:xfrm>
            <a:off x="414360" y="603360"/>
            <a:ext cx="8461440" cy="19684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99840" y="2508120"/>
            <a:ext cx="7086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wikispaces.com/site/tour#fil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2428920" y="59292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Material realizat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rofesor Sanda Popes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Line Callout 3 (Border and Accent Bar) 11"/>
          <p:cNvSpPr/>
          <p:nvPr/>
        </p:nvSpPr>
        <p:spPr>
          <a:xfrm>
            <a:off x="0" y="2428920"/>
            <a:ext cx="1500120" cy="15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84880" y="1562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Numele de utilizator poate să conțină doar litere, cifre , underscore   ( _  ) sau semnul – (minu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Callout 3 (Border and Accent Bar) 13"/>
          <p:cNvSpPr/>
          <p:nvPr/>
        </p:nvSpPr>
        <p:spPr>
          <a:xfrm>
            <a:off x="0" y="4214880"/>
            <a:ext cx="128592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823" y="20398"/>
                </a:lnTo>
                <a:lnTo>
                  <a:pt x="99875" y="-1100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Introduceți pa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Callout 3 (Border and Accent Bar) 14"/>
          <p:cNvSpPr/>
          <p:nvPr/>
        </p:nvSpPr>
        <p:spPr>
          <a:xfrm>
            <a:off x="0" y="5500800"/>
            <a:ext cx="121428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105415" y="-3474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Adresa de e-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Callout 3 (Border and Accent Bar) 15"/>
          <p:cNvSpPr/>
          <p:nvPr/>
        </p:nvSpPr>
        <p:spPr>
          <a:xfrm>
            <a:off x="5072040" y="5143680"/>
            <a:ext cx="1571760" cy="12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32859" y="-9266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Click al mouse-ul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Callout 3 (Border and Accent Bar) 3"/>
          <p:cNvSpPr/>
          <p:nvPr/>
        </p:nvSpPr>
        <p:spPr>
          <a:xfrm>
            <a:off x="214200" y="2571840"/>
            <a:ext cx="1143000" cy="8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104956" y="564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Click pentru crearea unui wik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Callout 3 (Border and Accent Bar) 2"/>
          <p:cNvSpPr/>
          <p:nvPr/>
        </p:nvSpPr>
        <p:spPr>
          <a:xfrm>
            <a:off x="0" y="3643200"/>
            <a:ext cx="1785960" cy="292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55579" y="3877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0000"/>
                </a:solidFill>
                <a:latin typeface="Book Antiqua"/>
              </a:rPr>
              <a:t>Veți primi un e-mail prin care vi se cere confirmarea că ați solicitat  spațiu pentru crearea unui wi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Line Callout 3 (Border and Accent Bar) 2"/>
          <p:cNvSpPr/>
          <p:nvPr/>
        </p:nvSpPr>
        <p:spPr>
          <a:xfrm>
            <a:off x="6858000" y="3000240"/>
            <a:ext cx="2000160" cy="107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34065" y="25498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c00000"/>
                </a:solidFill>
                <a:latin typeface="Book Antiqua"/>
              </a:rPr>
              <a:t>Introduceți numele dorit pentru wiki. El trebuie să fie unic în baza de date a platformei, deci verificați dacă este accepta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Callout 3 (Border and Accent Bar) 3"/>
          <p:cNvSpPr/>
          <p:nvPr/>
        </p:nvSpPr>
        <p:spPr>
          <a:xfrm>
            <a:off x="6786720" y="4357800"/>
            <a:ext cx="1928520" cy="107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4299" y="26477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c00000"/>
                </a:solidFill>
                <a:latin typeface="Book Antiqua"/>
              </a:rPr>
              <a:t>Din lista ascunsă alegeți tipul preferat al wiki-ulu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Callout 3 (Border and Accent Bar) 4"/>
          <p:cNvSpPr/>
          <p:nvPr/>
        </p:nvSpPr>
        <p:spPr>
          <a:xfrm>
            <a:off x="7286760" y="5572080"/>
            <a:ext cx="1000080" cy="71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9380" y="1538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Click pentru cre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Callout 3 5"/>
          <p:cNvSpPr/>
          <p:nvPr/>
        </p:nvSpPr>
        <p:spPr>
          <a:xfrm>
            <a:off x="0" y="3857760"/>
            <a:ext cx="178596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6286" y="-11513"/>
                </a:lnTo>
                <a:lnTo>
                  <a:pt x="34562" y="12331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0000"/>
                </a:solidFill>
                <a:latin typeface="Book Antiqua"/>
              </a:rPr>
              <a:t>Dac</a:t>
            </a:r>
            <a:r>
              <a:rPr b="1" lang="ro-RO" sz="1400" spc="-1" strike="noStrike">
                <a:solidFill>
                  <a:srgbClr val="ff0000"/>
                </a:solidFill>
                <a:latin typeface="Book Antiqua"/>
              </a:rPr>
              <a:t>ă bifaţi Protected (RECOMANDAT) editarea va fi permisă doar membrilor, altfel oricine vizitează pagina poate face modifică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-96840" y="-6480"/>
            <a:ext cx="3108240" cy="62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-360" y="785520"/>
            <a:ext cx="335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-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cum s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unteți administratorul wiki-ului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- Verificați email-ul (verificați și în Spam, poate  a ajuns acolo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spcBef>
                <a:spcPts val="451"/>
              </a:spcBef>
              <a:buClr>
                <a:srgbClr val="f9f9f9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Veți găsi un mesaj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î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 care</a:t>
            </a:r>
            <a:r>
              <a:rPr b="0" lang="ro-RO" sz="1800" spc="-1" strike="noStrike">
                <a:solidFill>
                  <a:srgbClr val="ffffff"/>
                </a:solidFill>
                <a:latin typeface="Book Antiqua"/>
              </a:rPr>
              <a:t> vi se comunică numele de utilizator cu care aveți acces ca administrator al noului site creat și vi se cere confirmarea pentru crearea wiki-ului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2"/>
          <a:stretch/>
        </p:blipFill>
        <p:spPr>
          <a:xfrm>
            <a:off x="3429000" y="500040"/>
            <a:ext cx="57214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Line Callout 3 (Border and Accent Bar) 2"/>
          <p:cNvSpPr/>
          <p:nvPr/>
        </p:nvSpPr>
        <p:spPr>
          <a:xfrm>
            <a:off x="5715000" y="2286000"/>
            <a:ext cx="200016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0097"/>
                </a:lnTo>
                <a:lnTo>
                  <a:pt x="-52030" y="3141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Puteți crea o pagină nou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Callout 3 (Border and Accent Bar) 3"/>
          <p:cNvSpPr/>
          <p:nvPr/>
        </p:nvSpPr>
        <p:spPr>
          <a:xfrm>
            <a:off x="6572160" y="3000240"/>
            <a:ext cx="2143080" cy="78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467" y="22936"/>
                </a:lnTo>
                <a:lnTo>
                  <a:pt x="-55863" y="812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Aveți control asupra activității tuturor utilizatoril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Callout 3 (Border and Accent Bar) 4"/>
          <p:cNvSpPr/>
          <p:nvPr/>
        </p:nvSpPr>
        <p:spPr>
          <a:xfrm>
            <a:off x="6572160" y="3929040"/>
            <a:ext cx="2143080" cy="235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57088" y="-3626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De aici coordonați elementele paginii dumneavoastră p</a:t>
            </a:r>
            <a:r>
              <a:rPr b="1" lang="it-IT" sz="1600" spc="-1" strike="noStrike">
                <a:solidFill>
                  <a:srgbClr val="c00000"/>
                </a:solidFill>
                <a:latin typeface="Book Antiqua"/>
              </a:rPr>
              <a:t>entru a stabili </a:t>
            </a: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aspectul conținutului , </a:t>
            </a:r>
            <a:r>
              <a:rPr b="1" lang="it-IT" sz="1600" spc="-1" strike="noStrike">
                <a:solidFill>
                  <a:srgbClr val="c00000"/>
                </a:solidFill>
                <a:latin typeface="Book Antiqua"/>
              </a:rPr>
              <a:t>cine poate vizualiza şi edita wik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804960" y="1600200"/>
            <a:ext cx="7534080" cy="4708440"/>
          </a:xfrm>
          <a:prstGeom prst="rect">
            <a:avLst/>
          </a:prstGeom>
          <a:ln w="0">
            <a:noFill/>
          </a:ln>
        </p:spPr>
      </p:pic>
      <p:sp>
        <p:nvSpPr>
          <p:cNvPr id="116" name="Line Callout 3 (Border and Accent Bar) 4"/>
          <p:cNvSpPr/>
          <p:nvPr/>
        </p:nvSpPr>
        <p:spPr>
          <a:xfrm>
            <a:off x="2786040" y="4286160"/>
            <a:ext cx="264312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7451" y="-6172"/>
                </a:lnTo>
                <a:lnTo>
                  <a:pt x="25342" y="1156"/>
                </a:lnTo>
                <a:lnTo>
                  <a:pt x="42403" y="-1819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c00000"/>
                </a:solidFill>
                <a:latin typeface="Book Antiqua"/>
              </a:rPr>
              <a:t>Editați pagina nou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Când creaţi o nouă pagină în wiki, veţi dori să creaţi o legătură la acea pagină. Aveţi posibilitatea de a crea legături prin evidenţierea textul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ului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e care doriţi să link-ul şi 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legeți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pictogram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a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corespunzătoare     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di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n bara de instrumente. Aveţi posibilitatea să legaţi în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tre el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paginile wiki sau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ă realizați link-uri spre 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locaţiile din afara wiki. Pentru a elimina un link din editorul vizual, puneţi cursorul pe link, sau 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selectați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 link-ul, şi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 alegeți pictograma corespunzătoare</a:t>
            </a:r>
            <a:r>
              <a:rPr b="0" lang="vi-VN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o-RO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3429000" y="785880"/>
            <a:ext cx="575640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2571840" y="278604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4"/>
          <a:stretch/>
        </p:blipFill>
        <p:spPr>
          <a:xfrm>
            <a:off x="2286000" y="5786280"/>
            <a:ext cx="571680" cy="627120"/>
          </a:xfrm>
          <a:prstGeom prst="rect">
            <a:avLst/>
          </a:prstGeom>
          <a:ln w="0">
            <a:noFill/>
          </a:ln>
        </p:spPr>
      </p:pic>
      <p:cxnSp>
        <p:nvCxnSpPr>
          <p:cNvPr id="122" name="Straight Arrow Connector 9"/>
          <p:cNvCxnSpPr/>
          <p:nvPr/>
        </p:nvCxnSpPr>
        <p:spPr>
          <a:xfrm flipV="1">
            <a:off x="3071880" y="1071360"/>
            <a:ext cx="2572560" cy="20008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23" name="Straight Arrow Connector 11"/>
          <p:cNvCxnSpPr/>
          <p:nvPr/>
        </p:nvCxnSpPr>
        <p:spPr>
          <a:xfrm flipV="1">
            <a:off x="2857320" y="1142280"/>
            <a:ext cx="2929320" cy="49568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42:37Z</dcterms:created>
  <dc:creator>RaduL</dc:creator>
  <dc:description/>
  <dc:language>en-US</dc:language>
  <cp:lastModifiedBy>Your Full Name Here</cp:lastModifiedBy>
  <dcterms:modified xsi:type="dcterms:W3CDTF">2009-08-03T14:54:06Z</dcterms:modified>
  <cp:revision>88</cp:revision>
  <dc:subject/>
  <dc:title>Tutorial</dc:title>
</cp:coreProperties>
</file>